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069-3B25-43C6-B1F4-3BBCDDC2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C17-7EFC-49B3-913F-B5A8253D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E1D-BDCD-49DC-9CC1-63549B8A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6B0-212F-4351-ACEE-28845153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548-FFC0-489E-B9EC-2E179319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6E4-4AA0-4DFA-A55B-07BE2819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77B-E11F-437C-A601-DD54BFDB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E4E-7735-4C9F-94F4-8D346207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DEB-3495-4A5E-A67E-867C2992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A2F-4391-4491-A76D-B0C40EBA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E59-3B4A-4C82-BC87-B9FAC788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C3A-D9D8-4466-B1D5-A06E75FE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336F-A5D5-4DB3-A891-F9E2EACBD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F229-61A4-45FB-955B-B82712ADD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urveillance et diagnostic des défauts dans les machines tournante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fauts et symptô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C6F3-3BB2-4B2E-A7BC-935B8AECD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balourd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ention : un « choc » par tour génère également une augmentatio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raie à la fréquence de ro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utre symptôme (paliers liss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rbite de 2 capteurs de déplacement placés sur le palier à 90°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ovalisation de l ’orb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quilibrag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otor rig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sonance de flexion &gt;&gt; vitesse de r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otor flex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itesse de rotation au dessus de(s) résonance de flex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2A88-25FD-4B5D-8CA5-0B6E3A680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désalig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2057400" y="2514600"/>
            <a:ext cx="2209680" cy="609480"/>
          </a:xfrm>
          <a:prstGeom prst="flowChartMagneticDrum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7"/>
          <p:cNvSpPr/>
          <p:nvPr/>
        </p:nvSpPr>
        <p:spPr>
          <a:xfrm rot="1076400">
            <a:off x="5181120" y="3048120"/>
            <a:ext cx="1828800" cy="609480"/>
          </a:xfrm>
          <a:prstGeom prst="flowChartMagneticDrum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3886200" y="2819520"/>
            <a:ext cx="685800" cy="75960"/>
          </a:xfrm>
          <a:prstGeom prst="flowChartMagneticDrum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9"/>
          <p:cNvSpPr/>
          <p:nvPr/>
        </p:nvSpPr>
        <p:spPr>
          <a:xfrm rot="1092000">
            <a:off x="4495320" y="2971800"/>
            <a:ext cx="1067040" cy="152280"/>
          </a:xfrm>
          <a:prstGeom prst="flowChartMagneticDrum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0"/>
          <p:cNvSpPr/>
          <p:nvPr/>
        </p:nvSpPr>
        <p:spPr>
          <a:xfrm rot="1432200">
            <a:off x="4419360" y="2743200"/>
            <a:ext cx="228600" cy="304920"/>
          </a:xfrm>
          <a:prstGeom prst="flowChartMagneticDrum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1447920" y="2743200"/>
            <a:ext cx="685800" cy="76320"/>
          </a:xfrm>
          <a:prstGeom prst="flowChartMagneticDrum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4267080" y="2362320"/>
            <a:ext cx="990720" cy="228600"/>
          </a:xfrm>
          <a:custGeom>
            <a:avLst/>
            <a:gdLst>
              <a:gd name="textAreaLeft" fmla="*/ 173160 w 990720"/>
              <a:gd name="textAreaRight" fmla="*/ 718200 w 9907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3"/>
          <p:cNvSpPr/>
          <p:nvPr/>
        </p:nvSpPr>
        <p:spPr>
          <a:xfrm flipH="1">
            <a:off x="3657240" y="28195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5257800" y="3124080"/>
            <a:ext cx="5335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 flipV="1">
            <a:off x="3962520" y="251424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7"/>
          <p:cNvSpPr/>
          <p:nvPr/>
        </p:nvSpPr>
        <p:spPr>
          <a:xfrm flipV="1">
            <a:off x="5257800" y="2743200"/>
            <a:ext cx="763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8"/>
          <p:cNvSpPr/>
          <p:nvPr/>
        </p:nvSpPr>
        <p:spPr>
          <a:xfrm rot="1416000">
            <a:off x="6629040" y="3657600"/>
            <a:ext cx="685800" cy="76320"/>
          </a:xfrm>
          <a:prstGeom prst="flowChartMagneticDrum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9"/>
          <p:cNvSpPr/>
          <p:nvPr/>
        </p:nvSpPr>
        <p:spPr>
          <a:xfrm>
            <a:off x="1828800" y="2133720"/>
            <a:ext cx="685800" cy="152280"/>
          </a:xfrm>
          <a:custGeom>
            <a:avLst/>
            <a:gdLst>
              <a:gd name="textAreaLeft" fmla="*/ 119880 w 685800"/>
              <a:gd name="textAreaRight" fmla="*/ 497160 w 685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0"/>
          <p:cNvSpPr/>
          <p:nvPr/>
        </p:nvSpPr>
        <p:spPr>
          <a:xfrm>
            <a:off x="6553080" y="2971800"/>
            <a:ext cx="762120" cy="228600"/>
          </a:xfrm>
          <a:custGeom>
            <a:avLst/>
            <a:gdLst>
              <a:gd name="textAreaLeft" fmla="*/ 133200 w 762120"/>
              <a:gd name="textAreaRight" fmla="*/ 552600 w 762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424880" y="4052880"/>
            <a:ext cx="4251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ractéristiques harmoniq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 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 2*f_r, 4*fr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 N*fr accouplement à den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 direction axiale plus marqu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 dépend de l ’accoup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4978-5B95-41EB-830A-39F726935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roulements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ractéris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=nbr de bi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m=diamètre de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b=diamètre bi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angle de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4724280" y="2819520"/>
            <a:ext cx="3124440" cy="28954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5181480" y="3200400"/>
            <a:ext cx="2210040" cy="2133720"/>
          </a:xfrm>
          <a:prstGeom prst="ellipse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6934320" y="3124080"/>
            <a:ext cx="380880" cy="3812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6477120" y="2895480"/>
            <a:ext cx="380880" cy="3812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5943600" y="2819520"/>
            <a:ext cx="380880" cy="3808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5486400" y="2971800"/>
            <a:ext cx="380880" cy="3808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5105520" y="3276720"/>
            <a:ext cx="380880" cy="3808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15"/>
          <p:cNvSpPr/>
          <p:nvPr/>
        </p:nvSpPr>
        <p:spPr>
          <a:xfrm>
            <a:off x="7086600" y="4952880"/>
            <a:ext cx="380880" cy="3812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7315200" y="4572000"/>
            <a:ext cx="380880" cy="3808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7467480" y="4114800"/>
            <a:ext cx="381240" cy="3808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8"/>
          <p:cNvSpPr/>
          <p:nvPr/>
        </p:nvSpPr>
        <p:spPr>
          <a:xfrm>
            <a:off x="7315200" y="3581280"/>
            <a:ext cx="380880" cy="3812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20"/>
          <p:cNvSpPr/>
          <p:nvPr/>
        </p:nvSpPr>
        <p:spPr>
          <a:xfrm rot="17407200">
            <a:off x="6895800" y="1942560"/>
            <a:ext cx="228600" cy="1371600"/>
          </a:xfrm>
          <a:custGeom>
            <a:avLst/>
            <a:gdLst>
              <a:gd name="textAreaLeft" fmla="*/ 30600 w 228600"/>
              <a:gd name="textAreaRight" fmla="*/ 198000 w 22860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6553080" y="2971800"/>
            <a:ext cx="228600" cy="152280"/>
          </a:xfrm>
          <a:custGeom>
            <a:avLst/>
            <a:gdLst>
              <a:gd name="textAreaLeft" fmla="*/ 39960 w 228600"/>
              <a:gd name="textAreaRight" fmla="*/ 165960 w 2286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24"/>
          <p:cNvSpPr/>
          <p:nvPr/>
        </p:nvSpPr>
        <p:spPr>
          <a:xfrm rot="929400">
            <a:off x="6172200" y="3505320"/>
            <a:ext cx="838080" cy="152280"/>
          </a:xfrm>
          <a:custGeom>
            <a:avLst/>
            <a:gdLst>
              <a:gd name="textAreaLeft" fmla="*/ 146520 w 838080"/>
              <a:gd name="textAreaRight" fmla="*/ 607680 w 83808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27"/>
          <p:cNvSpPr/>
          <p:nvPr/>
        </p:nvSpPr>
        <p:spPr>
          <a:xfrm>
            <a:off x="5105520" y="4572000"/>
            <a:ext cx="15228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28"/>
          <p:cNvSpPr/>
          <p:nvPr/>
        </p:nvSpPr>
        <p:spPr>
          <a:xfrm>
            <a:off x="5105520" y="3581280"/>
            <a:ext cx="15228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29"/>
          <p:cNvSpPr/>
          <p:nvPr/>
        </p:nvSpPr>
        <p:spPr>
          <a:xfrm>
            <a:off x="6172200" y="5638680"/>
            <a:ext cx="15228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30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1"/>
          <p:cNvSpPr/>
          <p:nvPr/>
        </p:nvSpPr>
        <p:spPr>
          <a:xfrm flipH="1">
            <a:off x="159984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2"/>
          <p:cNvSpPr/>
          <p:nvPr/>
        </p:nvSpPr>
        <p:spPr>
          <a:xfrm flipV="1">
            <a:off x="160020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3"/>
          <p:cNvSpPr/>
          <p:nvPr/>
        </p:nvSpPr>
        <p:spPr>
          <a:xfrm>
            <a:off x="1600200" y="4495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4"/>
          <p:cNvSpPr/>
          <p:nvPr/>
        </p:nvSpPr>
        <p:spPr>
          <a:xfrm>
            <a:off x="35812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5"/>
          <p:cNvSpPr/>
          <p:nvPr/>
        </p:nvSpPr>
        <p:spPr>
          <a:xfrm flipH="1">
            <a:off x="3047760" y="4952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6"/>
          <p:cNvSpPr/>
          <p:nvPr/>
        </p:nvSpPr>
        <p:spPr>
          <a:xfrm flipH="1">
            <a:off x="274320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7"/>
          <p:cNvSpPr/>
          <p:nvPr/>
        </p:nvSpPr>
        <p:spPr>
          <a:xfrm>
            <a:off x="358128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8"/>
          <p:cNvSpPr/>
          <p:nvPr/>
        </p:nvSpPr>
        <p:spPr>
          <a:xfrm>
            <a:off x="1600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9"/>
          <p:cNvSpPr/>
          <p:nvPr/>
        </p:nvSpPr>
        <p:spPr>
          <a:xfrm>
            <a:off x="1600200" y="5638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40"/>
          <p:cNvSpPr/>
          <p:nvPr/>
        </p:nvSpPr>
        <p:spPr>
          <a:xfrm>
            <a:off x="16002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rc 44"/>
          <p:cNvSpPr/>
          <p:nvPr/>
        </p:nvSpPr>
        <p:spPr>
          <a:xfrm flipV="1" rot="1707000">
            <a:off x="1981080" y="5028120"/>
            <a:ext cx="685800" cy="381240"/>
          </a:xfrm>
          <a:custGeom>
            <a:avLst/>
            <a:gdLst>
              <a:gd name="textAreaLeft" fmla="*/ 0 w 685800"/>
              <a:gd name="textAreaRight" fmla="*/ 686160 w 685800"/>
              <a:gd name="textAreaTop" fmla="*/ -360 h 381240"/>
              <a:gd name="textAreaBottom" fmla="*/ 381240 h 3812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rc 45"/>
          <p:cNvSpPr/>
          <p:nvPr/>
        </p:nvSpPr>
        <p:spPr>
          <a:xfrm flipV="1" rot="12507000">
            <a:off x="2437560" y="4723560"/>
            <a:ext cx="685800" cy="381600"/>
          </a:xfrm>
          <a:custGeom>
            <a:avLst/>
            <a:gdLst>
              <a:gd name="textAreaLeft" fmla="*/ 0 w 685800"/>
              <a:gd name="textAreaRight" fmla="*/ 686160 w 685800"/>
              <a:gd name="textAreaTop" fmla="*/ 360 h 381600"/>
              <a:gd name="textAreaBottom" fmla="*/ 382320 h 381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46"/>
          <p:cNvSpPr/>
          <p:nvPr/>
        </p:nvSpPr>
        <p:spPr>
          <a:xfrm>
            <a:off x="2590920" y="510552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7"/>
          <p:cNvSpPr/>
          <p:nvPr/>
        </p:nvSpPr>
        <p:spPr>
          <a:xfrm>
            <a:off x="2590920" y="5105520"/>
            <a:ext cx="685800" cy="761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81DA-B5BF-4221-AEBD-309F6F7675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roulements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fauts : écaillage, usure, lub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iste exte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iste inte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bi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ymptô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ocs répétitifs à la fréquence de l ’élément considéré (billes, pistes,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476B-5D8F-48A8-9553-6A3ADA3D8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roulements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Fréquences caractérist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iste inte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iste exter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bill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ain fondam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028"/>
              <p:cNvSpPr txBox="1"/>
              <p:nvPr/>
            </p:nvSpPr>
            <p:spPr>
              <a:xfrm>
                <a:off x="3581280" y="2438280"/>
                <a:ext cx="2476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029"/>
              <p:cNvSpPr txBox="1"/>
              <p:nvPr/>
            </p:nvSpPr>
            <p:spPr>
              <a:xfrm>
                <a:off x="3657600" y="3505320"/>
                <a:ext cx="2476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030"/>
              <p:cNvSpPr txBox="1"/>
              <p:nvPr/>
            </p:nvSpPr>
            <p:spPr>
              <a:xfrm>
                <a:off x="3124080" y="4495680"/>
                <a:ext cx="2857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b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Db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031"/>
              <p:cNvSpPr txBox="1"/>
              <p:nvPr/>
            </p:nvSpPr>
            <p:spPr>
              <a:xfrm>
                <a:off x="4343400" y="5486400"/>
                <a:ext cx="2120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5B6E-8B55-4FFD-AB13-1D3484FFA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roulements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Considérations prat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écessité de connaître les dimensions du rou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lissement dans les fré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chocs répétitifs ne sont pas suffisamment énergétiques pour faire apparaître les raies correspondantes dans le spec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 courantes de descripteurs statistiques pour la détection des chocs (variance, Kurto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e méthode ‘ avancée 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 ’analyse d ’envelop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oix de la bande de filt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util de détection parfois trop sen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338A-3354-451E-833F-02A6D2B99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roulement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835280" y="1981080"/>
            <a:ext cx="54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398E-1903-4091-9CA6-577C41C67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cas des engrenages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éments mécaniques complex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ception, 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fauts pouvant évoluer rapidement vers la rup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ieurs type de défa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aux r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sure uniformes des dents, pi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caillage, fiss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ra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éthodes avancées pour la détection ‘ précoce 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E40B-E85B-45F4-829C-5CCF0F7CB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cas des engrenages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676520" y="2895480"/>
            <a:ext cx="2057400" cy="304920"/>
          </a:xfrm>
          <a:prstGeom prst="flowChartMagneticDrum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048120" y="2209680"/>
            <a:ext cx="838080" cy="1600200"/>
          </a:xfrm>
          <a:prstGeom prst="flowChartMagneticDrum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124080" y="3809880"/>
            <a:ext cx="685800" cy="990720"/>
          </a:xfrm>
          <a:prstGeom prst="flowChartMagneticDrum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3505320" y="4114800"/>
            <a:ext cx="2057400" cy="304920"/>
          </a:xfrm>
          <a:prstGeom prst="flowChartMagneticDrum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8"/>
          <p:cNvSpPr/>
          <p:nvPr/>
        </p:nvSpPr>
        <p:spPr>
          <a:xfrm flipH="1">
            <a:off x="1295280" y="2362320"/>
            <a:ext cx="533520" cy="457200"/>
          </a:xfrm>
          <a:custGeom>
            <a:avLst/>
            <a:gdLst>
              <a:gd name="textAreaLeft" fmla="*/ 93240 w 533520"/>
              <a:gd name="textAreaRight" fmla="*/ 387000 w 5335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9"/>
          <p:cNvSpPr/>
          <p:nvPr/>
        </p:nvSpPr>
        <p:spPr>
          <a:xfrm flipH="1">
            <a:off x="4037760" y="3657600"/>
            <a:ext cx="381240" cy="457200"/>
          </a:xfrm>
          <a:custGeom>
            <a:avLst/>
            <a:gdLst>
              <a:gd name="textAreaLeft" fmla="*/ 66600 w 381240"/>
              <a:gd name="textAreaRight" fmla="*/ 276480 w 3812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4177440" y="2708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40440" y="4495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1966320" y="2022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5014440" y="3546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1966320" y="5451480"/>
            <a:ext cx="25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 = N1.fr1=N2.f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8"/>
          <p:cNvSpPr/>
          <p:nvPr/>
        </p:nvSpPr>
        <p:spPr>
          <a:xfrm flipH="1">
            <a:off x="2666520" y="3886200"/>
            <a:ext cx="304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9"/>
          <p:cNvSpPr/>
          <p:nvPr/>
        </p:nvSpPr>
        <p:spPr>
          <a:xfrm flipH="1">
            <a:off x="2285640" y="3809880"/>
            <a:ext cx="6094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5867280" y="304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1"/>
          <p:cNvSpPr/>
          <p:nvPr/>
        </p:nvSpPr>
        <p:spPr>
          <a:xfrm>
            <a:off x="6634440" y="27669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Engrenages dro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6019200" y="35053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Times New Roman"/>
              </a:rPr>
              <a:t>Engrenages hélicoïd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1436400" y="3871800"/>
            <a:ext cx="103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es eff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FEE0-3067-42B8-8AEF-3EA9748E0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cas des engrenages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mptômes vibratoi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n distingue les défau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niformes sur toutes les dents (usure, pitt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fréquence d ’engrènement 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ocalisées sur des dents particulières (écaillage, fissures, fra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chocs localis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fréquence de chaque arbre fr1 ou f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modulation autour des raies fréquence d ’engrè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yse d ’hu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AFC0-52D1-42DB-AC7A-7B3CC3A01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chines tournantes présentes dans tous types d ’indus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es détériorations de ces machines conduis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ndisponibilité  des machines d ’où une perte de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ûts de maintenance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uisance de bruit et de vibrations (Normes de plus en plus sévè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 ’où la nécess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la surveill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u diagno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tuellement plusieurs méthodes utilisées, y compris la référence à des n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9B54-2AC5-427F-AEFA-A904EA77D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engrenage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01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8EBD-1078-4327-B591-48ECA9153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engrenage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028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467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221F-6884-4028-974A-0F0B7D10C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pompes/ventilateurs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oulement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réquences caractéris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fauts de pales, aube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réquence de passages des aubes fa= Na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urbulenc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hénomène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léatoires en hautes fré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pectres en 1/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avitation 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i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DC1A-AE41-4626-B363-227F1FC86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machines alternatives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teurs à combu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iesel, ess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automobiles, ma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roduction d ’électric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ompresseurs alterna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Plusieurs types de défa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soupap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ompes à injec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combu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réglages : avance à l ’allumage, clique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726F-1424-44EC-92AA-8E7D62B44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machines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ib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gnaux non-stationnaires : des événements temporels marq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mpression, injection, combustion, fermeture des soupap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emps-fréquence,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ession dans les cyl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on indicateur, mais mesurages délic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yse d ’hu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80A6-FE69-45A2-B20A-1D6A4A510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tableaux de synthèse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hénomènes à des fréquences multiples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ntier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la rotation f=N*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alourd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*fr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adial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.(fr)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salignement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2,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3,4..fr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xial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, rad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issure d ’arbr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,2,3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adial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on-linè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les de ventilateur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*fr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xiale/radial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ure du br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teurs électrique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spires*fr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adial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u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‘  ’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encoches*fr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‘  ’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‘  ’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grenage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e=N1.fr=N2.fr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adiale/axial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BBB0-FC6F-4F5D-90B0-2581526E6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tableaux de synthès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hénomènes harmoniques Fréquence NON Multiples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ntier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la rotation f=N*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ourbillons d ’huil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0.45*fr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adial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liers lisses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oulement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be,fbi,fb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xial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, radial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lis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hénomènes harmoniques Fréquence produisant des modulations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fauts engrenage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e+/- fr1,fr2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adiale/axial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ho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aux rond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igno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oulements : modulations en hautes fréquence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+/- fri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hocs H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utres fréquences caractéris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ésonance : flexion d ’arbre/ courroie/ structur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ourbillons de Von Karman  (foc vitesse du fluide)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5B10-4C99-471F-AF00-DABABFDAA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tableau de synthès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hénomènes caractérisés par des signaux non-station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avitat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hautes fréquenc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ruit caractéris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rot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urbulenc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écroissance en 1/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ocs, impact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: diesel, engrenages, jeux,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EE90-8914-486F-AB14-DE9F091037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tableaux de synthès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C684-23C2-45E0-BE25-D8528C685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conclusions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E245-2FDD-422F-BC4B-E5A622EE5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principe de la surveillance des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général, on réalise de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esurages de paramètres physiqu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sur une machines. Les paramètres physiques choisis doivent être sensibles à l ’apparition et/ou à l ’évolution de celui-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Traitement du signal devra extraire du signal le meilleur ‘ indicateur ’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029"/>
          <p:cNvSpPr/>
          <p:nvPr/>
        </p:nvSpPr>
        <p:spPr>
          <a:xfrm flipV="1">
            <a:off x="1219320" y="3733920"/>
            <a:ext cx="0" cy="21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30"/>
          <p:cNvSpPr/>
          <p:nvPr/>
        </p:nvSpPr>
        <p:spPr>
          <a:xfrm>
            <a:off x="1219320" y="586728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1031"/>
          <p:cNvSpPr/>
          <p:nvPr/>
        </p:nvSpPr>
        <p:spPr>
          <a:xfrm>
            <a:off x="1230480" y="4235400"/>
            <a:ext cx="4044960" cy="1498680"/>
          </a:xfrm>
          <a:custGeom>
            <a:avLst/>
            <a:gdLst>
              <a:gd name="textAreaLeft" fmla="*/ 0 w 4044960"/>
              <a:gd name="textAreaRight" fmla="*/ 4045320 w 40449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2548" h="944">
                <a:moveTo>
                  <a:pt x="0" y="590"/>
                </a:moveTo>
                <a:cubicBezTo>
                  <a:pt x="13" y="638"/>
                  <a:pt x="15" y="667"/>
                  <a:pt x="65" y="683"/>
                </a:cubicBezTo>
                <a:cubicBezTo>
                  <a:pt x="131" y="782"/>
                  <a:pt x="328" y="817"/>
                  <a:pt x="434" y="830"/>
                </a:cubicBezTo>
                <a:cubicBezTo>
                  <a:pt x="877" y="944"/>
                  <a:pt x="1348" y="899"/>
                  <a:pt x="1791" y="812"/>
                </a:cubicBezTo>
                <a:cubicBezTo>
                  <a:pt x="1800" y="806"/>
                  <a:pt x="1809" y="798"/>
                  <a:pt x="1819" y="794"/>
                </a:cubicBezTo>
                <a:cubicBezTo>
                  <a:pt x="1831" y="789"/>
                  <a:pt x="1845" y="790"/>
                  <a:pt x="1856" y="784"/>
                </a:cubicBezTo>
                <a:cubicBezTo>
                  <a:pt x="1959" y="731"/>
                  <a:pt x="1865" y="756"/>
                  <a:pt x="1957" y="738"/>
                </a:cubicBezTo>
                <a:cubicBezTo>
                  <a:pt x="1984" y="721"/>
                  <a:pt x="2016" y="713"/>
                  <a:pt x="2040" y="692"/>
                </a:cubicBezTo>
                <a:cubicBezTo>
                  <a:pt x="2105" y="636"/>
                  <a:pt x="2061" y="655"/>
                  <a:pt x="2114" y="637"/>
                </a:cubicBezTo>
                <a:cubicBezTo>
                  <a:pt x="2128" y="623"/>
                  <a:pt x="2137" y="604"/>
                  <a:pt x="2151" y="590"/>
                </a:cubicBezTo>
                <a:cubicBezTo>
                  <a:pt x="2159" y="582"/>
                  <a:pt x="2171" y="579"/>
                  <a:pt x="2179" y="572"/>
                </a:cubicBezTo>
                <a:cubicBezTo>
                  <a:pt x="2198" y="555"/>
                  <a:pt x="2216" y="535"/>
                  <a:pt x="2234" y="517"/>
                </a:cubicBezTo>
                <a:cubicBezTo>
                  <a:pt x="2240" y="511"/>
                  <a:pt x="2253" y="498"/>
                  <a:pt x="2253" y="498"/>
                </a:cubicBezTo>
                <a:cubicBezTo>
                  <a:pt x="2274" y="434"/>
                  <a:pt x="2243" y="510"/>
                  <a:pt x="2299" y="443"/>
                </a:cubicBezTo>
                <a:cubicBezTo>
                  <a:pt x="2305" y="435"/>
                  <a:pt x="2303" y="423"/>
                  <a:pt x="2308" y="415"/>
                </a:cubicBezTo>
                <a:cubicBezTo>
                  <a:pt x="2313" y="408"/>
                  <a:pt x="2321" y="403"/>
                  <a:pt x="2327" y="397"/>
                </a:cubicBezTo>
                <a:cubicBezTo>
                  <a:pt x="2337" y="365"/>
                  <a:pt x="2354" y="350"/>
                  <a:pt x="2373" y="323"/>
                </a:cubicBezTo>
                <a:cubicBezTo>
                  <a:pt x="2384" y="290"/>
                  <a:pt x="2379" y="297"/>
                  <a:pt x="2400" y="267"/>
                </a:cubicBezTo>
                <a:cubicBezTo>
                  <a:pt x="2415" y="245"/>
                  <a:pt x="2447" y="203"/>
                  <a:pt x="2447" y="203"/>
                </a:cubicBezTo>
                <a:cubicBezTo>
                  <a:pt x="2458" y="167"/>
                  <a:pt x="2476" y="127"/>
                  <a:pt x="2502" y="101"/>
                </a:cubicBezTo>
                <a:cubicBezTo>
                  <a:pt x="2511" y="76"/>
                  <a:pt x="2521" y="52"/>
                  <a:pt x="2530" y="27"/>
                </a:cubicBezTo>
                <a:cubicBezTo>
                  <a:pt x="2534" y="17"/>
                  <a:pt x="2548" y="0"/>
                  <a:pt x="2548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033"/>
          <p:cNvSpPr/>
          <p:nvPr/>
        </p:nvSpPr>
        <p:spPr>
          <a:xfrm>
            <a:off x="426708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34"/>
          <p:cNvSpPr/>
          <p:nvPr/>
        </p:nvSpPr>
        <p:spPr>
          <a:xfrm>
            <a:off x="495288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35"/>
          <p:cNvSpPr/>
          <p:nvPr/>
        </p:nvSpPr>
        <p:spPr>
          <a:xfrm>
            <a:off x="1378440" y="3733920"/>
            <a:ext cx="217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amè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aractéristique du déf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6"/>
          <p:cNvSpPr/>
          <p:nvPr/>
        </p:nvSpPr>
        <p:spPr>
          <a:xfrm>
            <a:off x="5189760" y="5029200"/>
            <a:ext cx="213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euil d ’alar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alarme de surveilla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37"/>
          <p:cNvSpPr/>
          <p:nvPr/>
        </p:nvSpPr>
        <p:spPr>
          <a:xfrm>
            <a:off x="5775120" y="407664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euil d ’arrê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38"/>
          <p:cNvSpPr/>
          <p:nvPr/>
        </p:nvSpPr>
        <p:spPr>
          <a:xfrm>
            <a:off x="5090760" y="5756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08D6-CBCD-4685-9CA6-FFB7B33B9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conclusion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A57F-B358-4CFB-9441-6299CE2E2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hypothèses géné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ypothèses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système invaria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« changements dans les signaux mesurés »=évolution du déf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nnaissance du système méca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fficulté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- système variable/ non-stationnaire/ non-linéair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Rectangle 6"/>
          <p:cNvSpPr/>
          <p:nvPr/>
        </p:nvSpPr>
        <p:spPr>
          <a:xfrm>
            <a:off x="2819520" y="2133720"/>
            <a:ext cx="35812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chine,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7"/>
          <p:cNvSpPr/>
          <p:nvPr/>
        </p:nvSpPr>
        <p:spPr>
          <a:xfrm>
            <a:off x="167652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"/>
          <p:cNvSpPr/>
          <p:nvPr/>
        </p:nvSpPr>
        <p:spPr>
          <a:xfrm>
            <a:off x="1676520" y="2666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167652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6400800" y="2438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6400800" y="2666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6400800" y="2971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763560" y="2286000"/>
            <a:ext cx="150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Excit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non mesur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= Défaut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6613920" y="17175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o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1127520" y="17175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tr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6629400" y="2362320"/>
            <a:ext cx="18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Vibrations,br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Forces, 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Mesurés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FCE8-9FE6-402E-A25F-6467524E46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quels défauts, quels symptôm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usieurs défauts peuvent apparaître. Il est important de connaî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eur criticité, leur occurrenc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 ’expérience, les données statistiques (société d ’assurance Alian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es analyses de sûreté de fonctionnement ( AM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eur(s) symptô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quels sont les paramètres physiques qu ’ils affec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quelles sont les caractéristiques de ces symptômes en terme de sign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es méthodes de TS pressenties sont-elles suffis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es contraintes spécifiques de la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mpossibilité de certains types de mesures,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faut enfin prendre en compte le fai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s défauts peuvent avoir de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manifestations simi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lusieurs défaut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peuvent apparaître en même tem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F490-3C05-445B-850E-4057EC07D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. Intérêt des vib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ibrations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ont d ’intérêt pour la surveillance et le diagnostic des machin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phénomènes dynamiques sont bien appréhendés par les vibrat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lusieurs défauts ont des caractérisations bien identifié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mesures de vibrations et l ’analyse du signal associé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sont en général de mise en œuvre si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l ne faut pas arrêter les machines, ce qui est important dans un contexte industri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éanmoins, il ne faut pas négliger les autres informations disponibles. (capteurs/expérience, 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5791-7962-4698-813D-AF84FF233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hypothèses de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ditions de fonctionnement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itesse de rotation cons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uple (charge)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surages contrô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int de me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pét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naissance de la ciné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B553-E167-459A-9595-020D4607D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balourd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faut le plus fréq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2057400" y="3124080"/>
            <a:ext cx="2514600" cy="685800"/>
          </a:xfrm>
          <a:prstGeom prst="flowChartMagneticDrum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4114800" y="3429000"/>
            <a:ext cx="1295280" cy="152280"/>
          </a:xfrm>
          <a:prstGeom prst="flowChartMagneticDrum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1523880" y="3352680"/>
            <a:ext cx="685800" cy="152640"/>
          </a:xfrm>
          <a:prstGeom prst="flowChartMagneticDrum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3581280" y="2971800"/>
            <a:ext cx="152640" cy="152280"/>
          </a:xfrm>
          <a:prstGeom prst="flowChartMagneticDisk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523880" y="3505320"/>
            <a:ext cx="152640" cy="30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4724280" y="358128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2819520" y="2743200"/>
            <a:ext cx="609480" cy="304920"/>
          </a:xfrm>
          <a:custGeom>
            <a:avLst/>
            <a:gdLst>
              <a:gd name="textAreaLeft" fmla="*/ 106560 w 609480"/>
              <a:gd name="textAreaRight" fmla="*/ 442080 w 6094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1752480" y="289548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4724280" y="2743200"/>
            <a:ext cx="76320" cy="685800"/>
          </a:xfrm>
          <a:prstGeom prst="upArrow">
            <a:avLst>
              <a:gd name="adj1" fmla="val 50000"/>
              <a:gd name="adj2" fmla="val 2246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4"/>
          <p:cNvSpPr/>
          <p:nvPr/>
        </p:nvSpPr>
        <p:spPr>
          <a:xfrm>
            <a:off x="3429000" y="3429000"/>
            <a:ext cx="152280" cy="15228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6"/>
          <p:cNvSpPr/>
          <p:nvPr/>
        </p:nvSpPr>
        <p:spPr>
          <a:xfrm flipH="1">
            <a:off x="3733560" y="3505320"/>
            <a:ext cx="990360" cy="2286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990720" y="3429000"/>
            <a:ext cx="761760" cy="3049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5013360" y="216864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 m.r.</a:t>
            </a: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0²=m.r.2pi.f0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838080" y="4419720"/>
            <a:ext cx="74757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istence d ’une force 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tournan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centrifuge) à la vitesse de rotation </a:t>
            </a: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vec une réaction sur les pali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placement /accélération au niveau des pa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irection rad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ractéristiques fréquentiel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490560" y="24526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2728800" y="237024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fauts et symptômes vibra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BECF-28E1-476D-BFCD-205750C67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gnostic des machines tournantes</a:t>
            </a:r>
            <a:br>
              <a:rPr sz="2800"/>
            </a:b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défauts et symptômes : balourd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4"/>
          <p:cNvSpPr/>
          <p:nvPr/>
        </p:nvSpPr>
        <p:spPr>
          <a:xfrm>
            <a:off x="1981080" y="3048120"/>
            <a:ext cx="1371600" cy="1143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5"/>
          <p:cNvSpPr/>
          <p:nvPr/>
        </p:nvSpPr>
        <p:spPr>
          <a:xfrm>
            <a:off x="2590920" y="3581280"/>
            <a:ext cx="22860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666880" y="342900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133720" y="2590920"/>
            <a:ext cx="1066680" cy="22860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4572000" y="35812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1"/>
          <p:cNvSpPr/>
          <p:nvPr/>
        </p:nvSpPr>
        <p:spPr>
          <a:xfrm flipV="1">
            <a:off x="4572000" y="2742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2"/>
          <p:cNvSpPr/>
          <p:nvPr/>
        </p:nvSpPr>
        <p:spPr>
          <a:xfrm flipV="1">
            <a:off x="2666880" y="2819520"/>
            <a:ext cx="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3"/>
          <p:cNvSpPr/>
          <p:nvPr/>
        </p:nvSpPr>
        <p:spPr>
          <a:xfrm flipV="1">
            <a:off x="2666880" y="30477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27432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7"/>
          <p:cNvSpPr/>
          <p:nvPr/>
        </p:nvSpPr>
        <p:spPr>
          <a:xfrm>
            <a:off x="2819520" y="37339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2666880" y="289548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3200400" y="3048120"/>
            <a:ext cx="16765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3581280" y="358128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3352680" y="4114800"/>
            <a:ext cx="2438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2666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4"/>
          <p:cNvSpPr/>
          <p:nvPr/>
        </p:nvSpPr>
        <p:spPr>
          <a:xfrm>
            <a:off x="2666880" y="4343400"/>
            <a:ext cx="3429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25"/>
          <p:cNvSpPr/>
          <p:nvPr/>
        </p:nvSpPr>
        <p:spPr>
          <a:xfrm>
            <a:off x="4572000" y="2743200"/>
            <a:ext cx="3048120" cy="156204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920" h="984">
                <a:moveTo>
                  <a:pt x="0" y="72"/>
                </a:moveTo>
                <a:cubicBezTo>
                  <a:pt x="32" y="84"/>
                  <a:pt x="64" y="96"/>
                  <a:pt x="144" y="168"/>
                </a:cubicBezTo>
                <a:cubicBezTo>
                  <a:pt x="224" y="240"/>
                  <a:pt x="384" y="392"/>
                  <a:pt x="480" y="504"/>
                </a:cubicBezTo>
                <a:cubicBezTo>
                  <a:pt x="576" y="616"/>
                  <a:pt x="648" y="760"/>
                  <a:pt x="720" y="840"/>
                </a:cubicBezTo>
                <a:cubicBezTo>
                  <a:pt x="792" y="920"/>
                  <a:pt x="848" y="984"/>
                  <a:pt x="912" y="984"/>
                </a:cubicBezTo>
                <a:cubicBezTo>
                  <a:pt x="976" y="984"/>
                  <a:pt x="1024" y="920"/>
                  <a:pt x="1104" y="840"/>
                </a:cubicBezTo>
                <a:cubicBezTo>
                  <a:pt x="1184" y="760"/>
                  <a:pt x="1312" y="616"/>
                  <a:pt x="1392" y="504"/>
                </a:cubicBezTo>
                <a:cubicBezTo>
                  <a:pt x="1472" y="392"/>
                  <a:pt x="1520" y="248"/>
                  <a:pt x="1584" y="168"/>
                </a:cubicBezTo>
                <a:cubicBezTo>
                  <a:pt x="1648" y="88"/>
                  <a:pt x="1720" y="48"/>
                  <a:pt x="1776" y="24"/>
                </a:cubicBezTo>
                <a:cubicBezTo>
                  <a:pt x="1832" y="0"/>
                  <a:pt x="1896" y="24"/>
                  <a:pt x="1920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4572000" y="47242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5699520" y="468936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=1/f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7986240" y="3089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4572000" y="59436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8062560" y="5527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1"/>
          <p:cNvSpPr/>
          <p:nvPr/>
        </p:nvSpPr>
        <p:spPr>
          <a:xfrm flipV="1">
            <a:off x="4572000" y="4952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2"/>
          <p:cNvSpPr/>
          <p:nvPr/>
        </p:nvSpPr>
        <p:spPr>
          <a:xfrm flipV="1">
            <a:off x="5257800" y="5257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5335560" y="5867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6"/>
          <p:cNvSpPr/>
          <p:nvPr/>
        </p:nvSpPr>
        <p:spPr>
          <a:xfrm>
            <a:off x="4572000" y="52578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7"/>
          <p:cNvSpPr/>
          <p:nvPr/>
        </p:nvSpPr>
        <p:spPr>
          <a:xfrm>
            <a:off x="2734560" y="4987800"/>
            <a:ext cx="93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07:39:08Z</dcterms:created>
  <dc:creator>Mr SIDAHMED</dc:creator>
  <dc:description/>
  <dc:language>en-US</dc:language>
  <cp:lastModifiedBy>Marco</cp:lastModifiedBy>
  <dcterms:modified xsi:type="dcterms:W3CDTF">2012-01-28T23:21:06Z</dcterms:modified>
  <cp:revision>16</cp:revision>
  <dc:subject/>
  <dc:title>Vibrations machines tournantes.</dc:title>
</cp:coreProperties>
</file>